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36477-2C9C-4FB9-8E23-98A2BB5CFF54}" type="datetime">
              <a:rPr b="0" lang="en-US" sz="1200" spc="-1" strike="noStrike">
                <a:solidFill>
                  <a:srgbClr val="000000"/>
                </a:solidFill>
                <a:latin typeface="Calibri"/>
              </a:rPr>
              <a:t>07/29/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17582-7BB6-4C23-AB1D-E5B6B7C42A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C332-8178-44B4-A837-FF80A5B67F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78848-83C9-42FB-AFB0-7C95D3BB4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D0830-6EE5-495D-B661-5DD999E63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501E8-09FE-403A-A745-29064484A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E4472-4C8E-4C4A-A59D-A452A348A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D31F7-03AE-4020-AB87-C27D9AC61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126FA-2CF0-4D4F-9FD2-57FB195B5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0C74C-AC3C-441F-A6D5-4CD56E403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E37F9-76B2-479C-A70C-55DD5C798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C821A-F2CA-4AB7-A3AC-CC844A6BC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70351-8597-4D9F-BFED-80F4DF4DB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FDA0F-D613-42AE-B42B-C9106B9DA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898C6-0E7F-4364-8F29-B440EF9C3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736B9-F739-454E-92C1-931A51F491C4}"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76FA7-1311-43D4-A604-E711154AED9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2893680" y="-792000"/>
            <a:ext cx="3356640" cy="2040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doni MT Black"/>
                <a:ea typeface="Calibri"/>
              </a:rPr>
              <a:t>What Does It All Mean &amp;</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doni MT Black"/>
                <a:ea typeface="Calibri"/>
              </a:rPr>
              <a:t>Why Is It So Important, Anyway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 name="AutoShape 1"/>
          <p:cNvSpPr/>
          <p:nvPr/>
        </p:nvSpPr>
        <p:spPr>
          <a:xfrm>
            <a:off x="2819520" y="1143000"/>
            <a:ext cx="3362040" cy="1914480"/>
          </a:xfrm>
          <a:prstGeom prst="irregularSeal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Rectangle 3"/>
          <p:cNvSpPr/>
          <p:nvPr/>
        </p:nvSpPr>
        <p:spPr>
          <a:xfrm>
            <a:off x="2592360" y="47520"/>
            <a:ext cx="3959280" cy="5702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nap ITC"/>
                <a:ea typeface="Calibri"/>
              </a:rPr>
              <a:t>	</a:t>
            </a:r>
            <a:endParaRPr b="0" lang="en-US" sz="22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doni MT Black"/>
                <a:ea typeface="Calibri"/>
              </a:rPr>
              <a:t>	</a:t>
            </a: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nap ITC"/>
                <a:ea typeface="Calibri"/>
              </a:rPr>
              <a:t>SCIENCE</a:t>
            </a: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doni MT Black"/>
                <a:ea typeface="Calibri"/>
              </a:rPr>
              <a:t>Big Ideas</a:t>
            </a: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doni MT Black"/>
                <a:ea typeface="Calibri"/>
              </a:rPr>
              <a:t>Enduring Understandings </a:t>
            </a: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doni MT Black"/>
                <a:ea typeface="Calibri"/>
              </a:rPr>
              <a:t>Unifying Concepts </a:t>
            </a: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doni MT Black"/>
                <a:ea typeface="Calibri"/>
              </a:rPr>
              <a:t>Cross-Cutting Elements</a:t>
            </a: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doni MT Black"/>
                <a:ea typeface="Calibri"/>
              </a:rPr>
              <a:t>Core Disciplinary Ideas</a:t>
            </a:r>
            <a:endParaRPr b="0" lang="en-US" sz="20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lephant"/>
                <a:ea typeface="Calibri"/>
              </a:rPr>
              <a:t>Anna Dipinto</a:t>
            </a:r>
            <a:endParaRPr b="0" lang="en-US" sz="11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lephant"/>
                <a:ea typeface="Calibri"/>
              </a:rPr>
              <a:t>Adjunct Professor, National-Louis University</a:t>
            </a:r>
            <a:endParaRPr b="0" lang="en-US" sz="1100" spc="-1" strike="noStrike">
              <a:solidFill>
                <a:srgbClr val="000000"/>
              </a:solidFill>
              <a:latin typeface="Calibri"/>
            </a:endParaRPr>
          </a:p>
          <a:p>
            <a:pPr algn="ctr">
              <a:lnSpc>
                <a:spcPct val="100000"/>
              </a:lnSpc>
              <a:tabLst>
                <a:tab algn="l" pos="0"/>
                <a:tab algn="l" pos="2111400"/>
                <a:tab algn="ctr" pos="29718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lephant"/>
                <a:ea typeface="Calibri"/>
              </a:rPr>
              <a:t>Anna.Dipinto@nl.edu</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Rectangle 2"/>
          <p:cNvSpPr/>
          <p:nvPr/>
        </p:nvSpPr>
        <p:spPr>
          <a:xfrm>
            <a:off x="0" y="-2883960"/>
            <a:ext cx="9144000" cy="62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Form and Function:</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A relationship usually exists between the form of an object, (how it looks, sounds, feels, smells) and the function of the object, (what it does or its purpose). </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omic Sans MS"/>
                <a:ea typeface="Calibri"/>
              </a:rPr>
              <a:t>Questions students can consider when investigating form and function:</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How is the object built?</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is the object made of?</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are the observable characteristics of the object?</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are the characteristics of the object derived from indirect evidence, or evidence that has been inferred from observations?</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How do the characteristics effect how the object works?</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is the purpose of a particular characteristic?</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changes to the form will make the object function differently?</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How or why would changes occur?</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What would happen if no changes occur to the objec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1"/>
          <p:cNvSpPr/>
          <p:nvPr/>
        </p:nvSpPr>
        <p:spPr>
          <a:xfrm>
            <a:off x="0" y="-2366640"/>
            <a:ext cx="9144000" cy="5190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Evolution and Equilibrium:</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Evolution represents change in a system. Systems can be biological, physical, or technical. Changes can be chemical, physical, and/or biological. Changes can be gradual, abrupt, and/or sporadic. Forces or changes cause systems to react. The forces or changes may occur in opposite and off-setting directions causing an equilibrium.</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omic Sans MS"/>
                <a:ea typeface="Calibri"/>
              </a:rPr>
              <a:t>Questions students can consider when investigating evolution and equilibrium:</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kind of system is being changed?</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How is the system changing?</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In what time frame are the changes happening?</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Are their patterns to the changes?</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are the changes or forces that are occurring?</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Are the changes or forces changing in a way that establishes  balanc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2"/>
          <p:cNvSpPr/>
          <p:nvPr/>
        </p:nvSpPr>
        <p:spPr>
          <a:xfrm>
            <a:off x="0" y="-1188720"/>
            <a:ext cx="8686800" cy="2835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ea typeface="Calibri"/>
              </a:rPr>
              <a:t>Big Ideas &amp; Enduring Understanding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Calibri"/>
              </a:rPr>
              <a:t>According to McTighe &amp; Wiggins, </a:t>
            </a:r>
            <a:r>
              <a:rPr b="1" i="1" lang="en-US" sz="1200" spc="-1" strike="noStrike">
                <a:solidFill>
                  <a:srgbClr val="000000"/>
                </a:solidFill>
                <a:latin typeface="Comic Sans MS"/>
                <a:ea typeface="Calibri"/>
              </a:rPr>
              <a:t>Big Ideas</a:t>
            </a:r>
            <a:r>
              <a:rPr b="0" lang="en-US" sz="1200" spc="-1" strike="noStrike">
                <a:solidFill>
                  <a:srgbClr val="000000"/>
                </a:solidFill>
                <a:latin typeface="Comic Sans MS"/>
                <a:ea typeface="Calibri"/>
              </a:rPr>
              <a:t> are the core ideas in a subject which have lasting value, transfer to other inquiries, and require to be uncovered because they are not obvious. They recur naturally throughout ones learning in the subject and raise other important questions that lead to making connections and deeper understanding.</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 name="AutoShape 1"/>
          <p:cNvSpPr/>
          <p:nvPr/>
        </p:nvSpPr>
        <p:spPr>
          <a:xfrm>
            <a:off x="1523880" y="1371600"/>
            <a:ext cx="6400800" cy="3062160"/>
          </a:xfrm>
          <a:custGeom>
            <a:avLst/>
            <a:gdLst>
              <a:gd name="textAreaLeft" fmla="*/ 1461240 w 6400800"/>
              <a:gd name="textAreaRight" fmla="*/ 4939560 w 6400800"/>
              <a:gd name="textAreaTop" fmla="*/ 699120 h 3062160"/>
              <a:gd name="textAreaBottom" fmla="*/ 2363040 h 3062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3"/>
          <p:cNvSpPr/>
          <p:nvPr/>
        </p:nvSpPr>
        <p:spPr>
          <a:xfrm>
            <a:off x="0" y="-4929120"/>
            <a:ext cx="8763120" cy="10772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Calibri"/>
              </a:rPr>
              <a:t>Big Ideas are:</a:t>
            </a:r>
            <a:endParaRPr b="0" lang="en-US" sz="16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Calibri"/>
              </a:rPr>
              <a:t>* enduring and have lasting value beyond the classroom</a:t>
            </a:r>
            <a:endParaRPr b="0" lang="en-US" sz="14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Calibri"/>
              </a:rPr>
              <a:t>* at the heart of the discipline</a:t>
            </a:r>
            <a:endParaRPr b="0" lang="en-US" sz="14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Calibri"/>
              </a:rPr>
              <a:t>* abstract, counterintuitive, and often misunderstood</a:t>
            </a:r>
            <a:endParaRPr b="0" lang="en-US" sz="14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Calibri"/>
              </a:rPr>
              <a:t>* embedded in facts, skills, and activities</a:t>
            </a:r>
            <a:endParaRPr b="0" lang="en-US" sz="14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ea typeface="Calibri"/>
              </a:rPr>
              <a:t>Enduring Understandings</a:t>
            </a:r>
            <a:r>
              <a:rPr b="0" lang="en-US" sz="1200" spc="-1" strike="noStrike">
                <a:solidFill>
                  <a:srgbClr val="000000"/>
                </a:solidFill>
                <a:latin typeface="Comic Sans MS"/>
                <a:ea typeface="Calibri"/>
              </a:rPr>
              <a:t> are what students should remember about a topic 40 years after they have learned it. These understandings are made up of the concepts, principles, and theories that weave many facts into revealing and useful patterns. They help make students make connections in their learning as students and adults.</a:t>
            </a:r>
            <a:r>
              <a:rPr b="0" lang="en-US" sz="1200" spc="-1" strike="noStrike" u="sng">
                <a:solidFill>
                  <a:srgbClr val="000000"/>
                </a:solidFill>
                <a:uFillTx/>
                <a:latin typeface="Showcard Gothic"/>
                <a:ea typeface="Calibri"/>
              </a:rPr>
              <a:t> </a:t>
            </a:r>
            <a:endParaRPr b="0" lang="en-US" sz="1200" spc="-1" strike="noStrike">
              <a:solidFill>
                <a:srgbClr val="000000"/>
              </a:solidFill>
              <a:latin typeface="Calibri"/>
            </a:endParaRPr>
          </a:p>
          <a:p>
            <a:pPr>
              <a:lnSpc>
                <a:spcPct val="100000"/>
              </a:lnSpc>
              <a:tabLst>
                <a:tab algn="l" pos="0"/>
                <a:tab algn="l" pos="1409760"/>
                <a:tab algn="ctr" pos="34290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488880"/>
            <a:ext cx="9144000" cy="143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Rectangle 6"/>
          <p:cNvSpPr/>
          <p:nvPr/>
        </p:nvSpPr>
        <p:spPr>
          <a:xfrm>
            <a:off x="0" y="-1386000"/>
            <a:ext cx="9144000" cy="41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7"/>
          <p:cNvSpPr/>
          <p:nvPr/>
        </p:nvSpPr>
        <p:spPr>
          <a:xfrm>
            <a:off x="0" y="-2625840"/>
            <a:ext cx="9144000" cy="776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7" name="Rectangle 1"/>
          <p:cNvSpPr/>
          <p:nvPr/>
        </p:nvSpPr>
        <p:spPr>
          <a:xfrm>
            <a:off x="0" y="6840"/>
            <a:ext cx="9144000" cy="1524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howcard Gothic"/>
                <a:ea typeface="Calibri"/>
              </a:rPr>
              <a:t>~ </a:t>
            </a:r>
            <a:r>
              <a:rPr b="0" lang="en-US" sz="2200" spc="-1" strike="noStrike" u="sng">
                <a:solidFill>
                  <a:srgbClr val="000000"/>
                </a:solidFill>
                <a:uFillTx/>
                <a:latin typeface="Showcard Gothic"/>
                <a:ea typeface="Calibri"/>
              </a:rPr>
              <a:t>Big Ideas &amp; Science </a:t>
            </a:r>
            <a:r>
              <a:rPr b="0" lang="en-US" sz="2200" spc="-1" strike="noStrike">
                <a:solidFill>
                  <a:srgbClr val="000000"/>
                </a:solidFill>
                <a:latin typeface="Showcard Gothic"/>
                <a:ea typeface="Calibri"/>
              </a:rPr>
              <a:t>~</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THE WHYS</a:t>
            </a:r>
            <a:r>
              <a:rPr b="0" lang="en-US" sz="1100" spc="-1" strike="noStrike">
                <a:solidFill>
                  <a:srgbClr val="000000"/>
                </a:solidFill>
                <a:latin typeface="Comic Sans MS"/>
                <a:ea typeface="Calibri"/>
              </a:rPr>
              <a:t>:  </a:t>
            </a:r>
            <a:r>
              <a:rPr b="0" lang="en-US" sz="1200" spc="-1" strike="noStrike">
                <a:solidFill>
                  <a:srgbClr val="000000"/>
                </a:solidFill>
                <a:latin typeface="Comic Sans MS"/>
                <a:ea typeface="Calibri"/>
              </a:rPr>
              <a:t>Research shows that what separates novices and experts in any field is how a person organizes knowledge. Expert understand core principles and theoretical frameworks while novices learn disconnected and isolated facts. Novices struggle to find ways to integrate and organize these facts, while experts use the conceptual frameworks to place knowledge into context which in-turns aides them in the retention of facts and ideas. This is why it is so important to use Big Ideas in your lesson and curriculum planning.</a:t>
            </a:r>
            <a:endParaRPr b="0" lang="en-US" sz="1200" spc="-1" strike="noStrike">
              <a:solidFill>
                <a:srgbClr val="000000"/>
              </a:solidFill>
              <a:latin typeface="Calibri"/>
            </a:endParaRPr>
          </a:p>
        </p:txBody>
      </p:sp>
      <p:sp>
        <p:nvSpPr>
          <p:cNvPr id="5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59" name="Rectangle 5"/>
          <p:cNvSpPr/>
          <p:nvPr/>
        </p:nvSpPr>
        <p:spPr>
          <a:xfrm>
            <a:off x="0" y="-1895760"/>
            <a:ext cx="9144000" cy="5163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ea typeface="Calibri"/>
              </a:rPr>
              <a:t>Need To Know Term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Calibri"/>
              </a:rPr>
              <a:t>Unifying Ideas of Science</a:t>
            </a:r>
            <a:r>
              <a:rPr b="0" lang="en-US" sz="1000" spc="-1" strike="noStrike">
                <a:solidFill>
                  <a:srgbClr val="000000"/>
                </a:solidFill>
                <a:latin typeface="Comic Sans MS"/>
                <a:ea typeface="Calibri"/>
              </a:rPr>
              <a:t>: From the National Science Standards, 1996.</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ea typeface="Calibri"/>
              </a:rPr>
              <a:t>Cross-Cutting Elements</a:t>
            </a:r>
            <a:r>
              <a:rPr b="0" lang="en-US" sz="1000" spc="-1" strike="noStrike">
                <a:solidFill>
                  <a:srgbClr val="000000"/>
                </a:solidFill>
                <a:latin typeface="Comic Sans MS"/>
                <a:ea typeface="Calibri"/>
              </a:rPr>
              <a:t>: From Conceptual Framework for the New Science Standards (Draft) July 2010.</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ea typeface="Calibri"/>
              </a:rPr>
              <a:t>Common Themes</a:t>
            </a:r>
            <a:r>
              <a:rPr b="0" lang="en-US" sz="1000" spc="-1" strike="noStrike">
                <a:solidFill>
                  <a:srgbClr val="000000"/>
                </a:solidFill>
                <a:latin typeface="Comic Sans MS"/>
                <a:ea typeface="Calibri"/>
              </a:rPr>
              <a:t>: From Project 2061, 1990.</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ea typeface="Calibri"/>
              </a:rPr>
              <a:t>Big Ideas &amp; Enduring Understandin</a:t>
            </a:r>
            <a:r>
              <a:rPr b="0" lang="en-US" sz="1000" spc="-1" strike="noStrike">
                <a:solidFill>
                  <a:srgbClr val="000000"/>
                </a:solidFill>
                <a:latin typeface="Comic Sans MS"/>
                <a:ea typeface="Calibri"/>
              </a:rPr>
              <a:t>g: From McTighe &amp; Wiggins, 2005.</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In science these are over-arching ideas that present themselves through all scientific disciplines. </a:t>
            </a:r>
            <a:r>
              <a:rPr b="1" i="1" lang="en-US" sz="1100" spc="-1" strike="noStrike">
                <a:solidFill>
                  <a:srgbClr val="000000"/>
                </a:solidFill>
                <a:latin typeface="Comic Sans MS"/>
              </a:rPr>
              <a:t>It is a way of thinking</a:t>
            </a:r>
            <a:r>
              <a:rPr b="0" lang="en-US" sz="1100" spc="-1" strike="noStrike">
                <a:solidFill>
                  <a:srgbClr val="000000"/>
                </a:solidFill>
                <a:latin typeface="Comic Sans MS"/>
              </a:rPr>
              <a:t> rather than individual theories, discoveries, or facts. They prepare students for deeper levels of scientific investigations and understandings as they progress through school and life.</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0"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61" name="Rectangle 9"/>
          <p:cNvSpPr/>
          <p:nvPr/>
        </p:nvSpPr>
        <p:spPr>
          <a:xfrm>
            <a:off x="349200" y="-2708280"/>
            <a:ext cx="6352920" cy="667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alibri"/>
              </a:rPr>
              <a:t> </a:t>
            </a:r>
            <a:r>
              <a:rPr b="1" lang="en-US" sz="1400" spc="-1" strike="noStrike">
                <a:solidFill>
                  <a:srgbClr val="000000"/>
                </a:solidFill>
                <a:latin typeface="Comic Sans MS"/>
                <a:ea typeface="Calibri"/>
              </a:rPr>
              <a:t>	</a:t>
            </a:r>
            <a:r>
              <a:rPr b="1" lang="en-US" sz="1400" spc="-1" strike="noStrike">
                <a:solidFill>
                  <a:srgbClr val="000000"/>
                </a:solidFill>
                <a:latin typeface="Comic Sans MS"/>
                <a:ea typeface="Calibri"/>
              </a:rPr>
              <a:t>	</a:t>
            </a:r>
            <a:r>
              <a:rPr b="1" lang="en-US" sz="1400" spc="-1" strike="noStrike">
                <a:solidFill>
                  <a:srgbClr val="000000"/>
                </a:solidFill>
                <a:latin typeface="Comic Sans MS"/>
                <a:ea typeface="Calibri"/>
              </a:rPr>
              <a:t>	</a:t>
            </a:r>
            <a:r>
              <a:rPr b="1" lang="en-US" sz="1400" spc="-1" strike="noStrike" u="sng">
                <a:solidFill>
                  <a:srgbClr val="000000"/>
                </a:solidFill>
                <a:uFillTx/>
                <a:latin typeface="Comic Sans MS"/>
                <a:ea typeface="Calibri"/>
              </a:rPr>
              <a:t>Need To Know Term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ea typeface="Calibri"/>
              </a:rPr>
              <a:t>Content Standards B-D</a:t>
            </a:r>
            <a:r>
              <a:rPr b="0" lang="en-US" sz="1000" spc="-1" strike="noStrike">
                <a:solidFill>
                  <a:srgbClr val="000000"/>
                </a:solidFill>
                <a:latin typeface="Comic Sans MS"/>
                <a:ea typeface="Calibri"/>
              </a:rPr>
              <a:t>: From the National Science Standards, 1996.</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ea typeface="Calibri"/>
              </a:rPr>
              <a:t>Core Disciplinary Ideas</a:t>
            </a:r>
            <a:r>
              <a:rPr b="0" lang="en-US" sz="1000" spc="-1" strike="noStrike">
                <a:solidFill>
                  <a:srgbClr val="000000"/>
                </a:solidFill>
                <a:latin typeface="Comic Sans MS"/>
                <a:ea typeface="Calibri"/>
              </a:rPr>
              <a:t>: From Conceptual Framework for the New Science Standards (Draft) July 2010.</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ea typeface="Calibri"/>
              </a:rPr>
              <a:t>Big Ideas &amp; Core Concepts</a:t>
            </a:r>
            <a:r>
              <a:rPr b="0" lang="en-US" sz="1000" spc="-1" strike="noStrike">
                <a:solidFill>
                  <a:srgbClr val="000000"/>
                </a:solidFill>
                <a:latin typeface="Comic Sans MS"/>
                <a:ea typeface="Calibri"/>
              </a:rPr>
              <a:t>: From McTighe &amp; Wiggins, 2005.</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Calibri"/>
              </a:rPr>
              <a:t>Note: The big ideas from the Trefil &amp; O</a:t>
            </a:r>
            <a:r>
              <a:rPr b="0" lang="en-US" sz="1000" spc="-1" strike="noStrike">
                <a:solidFill>
                  <a:srgbClr val="000000"/>
                </a:solidFill>
                <a:latin typeface="Calibri"/>
                <a:ea typeface="Calibri"/>
              </a:rPr>
              <a:t>’</a:t>
            </a:r>
            <a:r>
              <a:rPr b="0" lang="en-US" sz="1000" spc="-1" strike="noStrike">
                <a:solidFill>
                  <a:srgbClr val="000000"/>
                </a:solidFill>
                <a:latin typeface="Comic Sans MS"/>
                <a:ea typeface="Calibri"/>
              </a:rPr>
              <a:t>Brien-Trefil article and Wynn &amp; Wiggins book fall in this category.</a:t>
            </a:r>
            <a:endParaRPr b="0" lang="en-US" sz="1000" spc="-1" strike="noStrike">
              <a:solidFill>
                <a:srgbClr val="000000"/>
              </a:solidFill>
              <a:latin typeface="Calibri"/>
            </a:endParaRPr>
          </a:p>
        </p:txBody>
      </p:sp>
      <p:sp>
        <p:nvSpPr>
          <p:cNvPr id="62" name="Rectangle 10"/>
          <p:cNvSpPr/>
          <p:nvPr/>
        </p:nvSpPr>
        <p:spPr>
          <a:xfrm>
            <a:off x="0" y="-4107600"/>
            <a:ext cx="9144000" cy="867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Calibri"/>
              </a:rPr>
              <a:t>These are organizational structures to learn facts, practices, and explanations. These are key organizing concepts in a single discipline of science. They provide a key tool for understanding more complex ideas and solving problem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
          <p:cNvSpPr/>
          <p:nvPr/>
        </p:nvSpPr>
        <p:spPr>
          <a:xfrm>
            <a:off x="152280" y="685800"/>
            <a:ext cx="5334120" cy="121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Rectangle 3"/>
          <p:cNvSpPr/>
          <p:nvPr/>
        </p:nvSpPr>
        <p:spPr>
          <a:xfrm>
            <a:off x="288000" y="-3356280"/>
            <a:ext cx="4240080" cy="808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Unifying Concepts and Processes</a:t>
            </a:r>
            <a:endParaRPr b="0" lang="en-US" sz="14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Systems, order, and organization</a:t>
            </a:r>
            <a:endParaRPr b="0" lang="en-US" sz="12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Evidence, models, and explanation</a:t>
            </a:r>
            <a:endParaRPr b="0" lang="en-US" sz="12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hange, constancy, and measurement</a:t>
            </a:r>
            <a:endParaRPr b="0" lang="en-US" sz="12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Evolution and equilibrium</a:t>
            </a:r>
            <a:endParaRPr b="0" lang="en-US" sz="12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Form and function</a:t>
            </a:r>
            <a:endParaRPr b="0" lang="en-US" sz="12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Content Standard A: Science as Inquiry</a:t>
            </a:r>
            <a:endParaRPr b="0" lang="en-US" sz="14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bilities necessary to do science inquiry</a:t>
            </a:r>
            <a:endParaRPr b="0" lang="en-US" sz="12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Understandings about science inquiry</a:t>
            </a:r>
            <a:endParaRPr b="0" lang="en-US" sz="12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Content Standard B: Physical Science</a:t>
            </a:r>
            <a:endParaRPr b="0" lang="en-US" sz="14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Properties of objects and materials</a:t>
            </a:r>
            <a:endParaRPr b="0" lang="en-US" sz="12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Position and motion of objects</a:t>
            </a:r>
            <a:endParaRPr b="0" lang="en-US" sz="12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Light, heat, electricity, and magnetism</a:t>
            </a:r>
            <a:endParaRPr b="0" lang="en-US" sz="12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Content Standard C: Life Science</a:t>
            </a:r>
            <a:endParaRPr b="0" lang="en-US" sz="14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The characteristics of organisms</a:t>
            </a:r>
            <a:endParaRPr b="0" lang="en-US" sz="12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Life cycles of organisms</a:t>
            </a:r>
            <a:endParaRPr b="0" lang="en-US" sz="12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Organisms and environments</a:t>
            </a:r>
            <a:endParaRPr b="0" lang="en-US" sz="12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Content Standard D: Earth and Space Science</a:t>
            </a:r>
            <a:endParaRPr b="0" lang="en-US" sz="14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Properties of Earth materials</a:t>
            </a:r>
            <a:endParaRPr b="0" lang="en-US" sz="11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Objects in the sky</a:t>
            </a:r>
            <a:endParaRPr b="0" lang="en-US" sz="11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Changes in Earth and sky</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Rectangle 3"/>
          <p:cNvSpPr/>
          <p:nvPr/>
        </p:nvSpPr>
        <p:spPr>
          <a:xfrm>
            <a:off x="228600" y="-1703880"/>
            <a:ext cx="8915400" cy="4779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Calibri"/>
              </a:rPr>
              <a:t>Dimension 2:  Cross-Cutting Elemen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alibri"/>
              </a:rPr>
              <a:t>Seven Cross-Cutting Scientific Concepts</a:t>
            </a:r>
            <a:endParaRPr b="0" lang="en-US" sz="14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Calibri"/>
              </a:rPr>
              <a:t>Patterns, Similarity, &amp; Diversity</a:t>
            </a:r>
            <a:endParaRPr b="0" lang="en-US" sz="12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Calibri"/>
              </a:rPr>
              <a:t>Cause &amp; Effect</a:t>
            </a:r>
            <a:endParaRPr b="0" lang="en-US" sz="12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Calibri"/>
              </a:rPr>
              <a:t>Scale, Proportion, &amp; Quantity</a:t>
            </a:r>
            <a:endParaRPr b="0" lang="en-US" sz="12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Calibri"/>
              </a:rPr>
              <a:t>Systems &amp; System Models</a:t>
            </a:r>
            <a:endParaRPr b="0" lang="en-US" sz="12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Calibri"/>
              </a:rPr>
              <a:t>Energy &amp; Matter: Flows, Cycles, &amp; Conservation</a:t>
            </a:r>
            <a:endParaRPr b="0" lang="en-US" sz="12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Calibri"/>
              </a:rPr>
              <a:t>Form &amp; Function</a:t>
            </a:r>
            <a:endParaRPr b="0" lang="en-US" sz="12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Calibri"/>
              </a:rPr>
              <a:t>Stability &amp; Change</a:t>
            </a:r>
            <a:r>
              <a:rPr b="0" lang="en-US" sz="900" spc="-1" strike="noStrike">
                <a:solidFill>
                  <a:srgbClr val="000000"/>
                </a:solidFill>
                <a:latin typeface="Arial"/>
                <a:ea typeface="ＭＳ Ｐゴシック"/>
              </a:rPr>
              <a:t>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1"/>
          <p:cNvSpPr/>
          <p:nvPr/>
        </p:nvSpPr>
        <p:spPr>
          <a:xfrm>
            <a:off x="0" y="-2991960"/>
            <a:ext cx="9144000" cy="8765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Five Biggest Ideas in Science</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ccording to Charles M. Wynn &amp; Arthur W. Wiggin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ion:</a:t>
            </a:r>
            <a:r>
              <a:rPr b="0" lang="en-US" sz="1800" spc="-1" strike="noStrike">
                <a:solidFill>
                  <a:srgbClr val="000000"/>
                </a:solidFill>
                <a:latin typeface="Comic Sans MS"/>
              </a:rPr>
              <a:t> Do basic building blocks of matter exist? If so, what do they look lik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omic Sans MS"/>
              </a:rPr>
              <a:t>Answer:</a:t>
            </a:r>
            <a:r>
              <a:rPr b="0" lang="en-US" sz="1800" spc="-1" strike="noStrike">
                <a:solidFill>
                  <a:srgbClr val="7030a0"/>
                </a:solidFill>
                <a:latin typeface="Comic Sans MS"/>
              </a:rPr>
              <a:t> BIG IDEA #1 – Physics’ Model of the Atom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ion:</a:t>
            </a:r>
            <a:r>
              <a:rPr b="0" lang="en-US" sz="1800" spc="-1" strike="noStrike">
                <a:solidFill>
                  <a:srgbClr val="000000"/>
                </a:solidFill>
                <a:latin typeface="Comic Sans MS"/>
              </a:rPr>
              <a:t> What relationships, if any, exist among different kinds of atoms, the basic building blocks of the univers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omic Sans MS"/>
              </a:rPr>
              <a:t>Answer:</a:t>
            </a:r>
            <a:r>
              <a:rPr b="0" lang="en-US" sz="1800" spc="-1" strike="noStrike">
                <a:solidFill>
                  <a:srgbClr val="7030a0"/>
                </a:solidFill>
                <a:latin typeface="Comic Sans MS"/>
              </a:rPr>
              <a:t> BIG IDEA #2 – Chemistry’s Periodic Law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ion:</a:t>
            </a:r>
            <a:r>
              <a:rPr b="0" lang="en-US" sz="1800" spc="-1" strike="noStrike">
                <a:solidFill>
                  <a:srgbClr val="000000"/>
                </a:solidFill>
                <a:latin typeface="Comic Sans MS"/>
              </a:rPr>
              <a:t> Where did the atoms of the universe come from, and what is their destin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omic Sans MS"/>
                <a:ea typeface="Times New Roman"/>
              </a:rPr>
              <a:t>Answer:</a:t>
            </a:r>
            <a:r>
              <a:rPr b="0" lang="en-US" sz="1800" spc="-1" strike="noStrike">
                <a:solidFill>
                  <a:srgbClr val="7030a0"/>
                </a:solidFill>
                <a:latin typeface="Comic Sans MS"/>
                <a:ea typeface="Times New Roman"/>
              </a:rPr>
              <a:t> BIG IDEA #3 </a:t>
            </a:r>
            <a:r>
              <a:rPr b="0" lang="en-US" sz="1800" spc="-1" strike="noStrike">
                <a:solidFill>
                  <a:srgbClr val="7030a0"/>
                </a:solidFill>
                <a:latin typeface="Calibri"/>
                <a:ea typeface="Times New Roman"/>
              </a:rPr>
              <a:t>–</a:t>
            </a:r>
            <a:r>
              <a:rPr b="0" lang="en-US" sz="1800" spc="-1" strike="noStrike">
                <a:solidFill>
                  <a:srgbClr val="7030a0"/>
                </a:solidFill>
                <a:latin typeface="Comic Sans MS"/>
                <a:ea typeface="Times New Roman"/>
              </a:rPr>
              <a:t> Astronomy</a:t>
            </a:r>
            <a:r>
              <a:rPr b="0" lang="en-US" sz="1800" spc="-1" strike="noStrike">
                <a:solidFill>
                  <a:srgbClr val="7030a0"/>
                </a:solidFill>
                <a:latin typeface="Calibri"/>
                <a:ea typeface="Times New Roman"/>
              </a:rPr>
              <a:t>’</a:t>
            </a:r>
            <a:r>
              <a:rPr b="0" lang="en-US" sz="1800" spc="-1" strike="noStrike">
                <a:solidFill>
                  <a:srgbClr val="7030a0"/>
                </a:solidFill>
                <a:latin typeface="Comic Sans MS"/>
                <a:ea typeface="Times New Roman"/>
              </a:rPr>
              <a:t>s Big Bang Theor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Question:</a:t>
            </a:r>
            <a:r>
              <a:rPr b="0" lang="en-US" sz="1800" spc="-1" strike="noStrike">
                <a:solidFill>
                  <a:srgbClr val="000000"/>
                </a:solidFill>
                <a:latin typeface="Comic Sans MS"/>
                <a:ea typeface="Times New Roman"/>
              </a:rPr>
              <a:t> How is the matter of the universe arranged in planet Earth?</a:t>
            </a:r>
            <a:br>
              <a:rPr sz="1800"/>
            </a:br>
            <a:r>
              <a:rPr b="1" lang="en-US" sz="1800" spc="-1" strike="noStrike">
                <a:solidFill>
                  <a:srgbClr val="7030a0"/>
                </a:solidFill>
                <a:latin typeface="Comic Sans MS"/>
                <a:ea typeface="Times New Roman"/>
              </a:rPr>
              <a:t>Answer:</a:t>
            </a:r>
            <a:r>
              <a:rPr b="0" lang="en-US" sz="1800" spc="-1" strike="noStrike">
                <a:solidFill>
                  <a:srgbClr val="7030a0"/>
                </a:solidFill>
                <a:latin typeface="Comic Sans MS"/>
                <a:ea typeface="Times New Roman"/>
              </a:rPr>
              <a:t> BIG IDEA #4 </a:t>
            </a:r>
            <a:r>
              <a:rPr b="0" lang="en-US" sz="1800" spc="-1" strike="noStrike">
                <a:solidFill>
                  <a:srgbClr val="7030a0"/>
                </a:solidFill>
                <a:latin typeface="Calibri"/>
                <a:ea typeface="Times New Roman"/>
              </a:rPr>
              <a:t>–</a:t>
            </a:r>
            <a:r>
              <a:rPr b="0" lang="en-US" sz="1800" spc="-1" strike="noStrike">
                <a:solidFill>
                  <a:srgbClr val="7030a0"/>
                </a:solidFill>
                <a:latin typeface="Comic Sans MS"/>
                <a:ea typeface="Times New Roman"/>
              </a:rPr>
              <a:t> Geology</a:t>
            </a:r>
            <a:r>
              <a:rPr b="0" lang="en-US" sz="1800" spc="-1" strike="noStrike">
                <a:solidFill>
                  <a:srgbClr val="7030a0"/>
                </a:solidFill>
                <a:latin typeface="Calibri"/>
                <a:ea typeface="Times New Roman"/>
              </a:rPr>
              <a:t>’</a:t>
            </a:r>
            <a:r>
              <a:rPr b="0" lang="en-US" sz="1800" spc="-1" strike="noStrike">
                <a:solidFill>
                  <a:srgbClr val="7030a0"/>
                </a:solidFill>
                <a:latin typeface="Comic Sans MS"/>
                <a:ea typeface="Times New Roman"/>
              </a:rPr>
              <a:t>s Plate Tectonic Mode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ion:</a:t>
            </a:r>
            <a:r>
              <a:rPr b="0" lang="en-US" sz="1800" spc="-1" strike="noStrike">
                <a:solidFill>
                  <a:srgbClr val="000000"/>
                </a:solidFill>
                <a:latin typeface="Comic Sans MS"/>
              </a:rPr>
              <a:t> How did life on Earth originate and develop?</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omic Sans MS"/>
              </a:rPr>
              <a:t>Answer:</a:t>
            </a:r>
            <a:r>
              <a:rPr b="0" lang="en-US" sz="1800" spc="-1" strike="noStrike">
                <a:solidFill>
                  <a:srgbClr val="7030a0"/>
                </a:solidFill>
                <a:latin typeface="Comic Sans MS"/>
              </a:rPr>
              <a:t> BIG IDEA #5 – Biology’s Theory of Evolu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Rectangle 2"/>
          <p:cNvSpPr/>
          <p:nvPr/>
        </p:nvSpPr>
        <p:spPr>
          <a:xfrm>
            <a:off x="0" y="-4062960"/>
            <a:ext cx="9144000" cy="858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Systems, Order, and Organizat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A system is composed of parts arranged in a predictable manner according to some plan or function. Systems have inputs and outputs. Interactions within a system and how a particular system works/interacts in conjunction with other systems should be explored. Systems should be explored as a whole in relation to their parts and the parts in relation to the whole. Subsystems should also be identified and their elements, as part of a larger system.</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omic Sans MS"/>
                <a:ea typeface="Calibri"/>
              </a:rPr>
              <a:t>Questions students can consider when investigating systems:</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are the parts of the system?</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is the purpose of the system?</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How does the system interrelate to other systems?</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Could some parts be removed without changing how the system functions?</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parts are essential to the function of the system?</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would happen if different parts were added to the system?</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Is the system closed or open?</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2"/>
          <p:cNvSpPr/>
          <p:nvPr/>
        </p:nvSpPr>
        <p:spPr>
          <a:xfrm>
            <a:off x="0" y="-2815560"/>
            <a:ext cx="9144000" cy="608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Constancy, Change, and Measuremen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Some things stay constant over time while others are in the process of being changed. Many of these changes are repeated constantly over time and/or adhere to some pattern. Measurements can be used to record changes.</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omic Sans MS"/>
                <a:ea typeface="Calibri"/>
              </a:rPr>
              <a:t>Questions students can consider when investigating constancy, change, and measurement:</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In what ways did it change and/or stay the same?</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How long did it take for the change and/or stay the same?</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might have caused it to change and/ or stay the same?</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Could anything be done to make the changes go faster or slower?</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if any patterns exist in the way or the time it took to change?</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What is the best type of measurement, scale, and/or rare to use to record the changes and or/constancy?</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Rectangle 2"/>
          <p:cNvSpPr/>
          <p:nvPr/>
        </p:nvSpPr>
        <p:spPr>
          <a:xfrm>
            <a:off x="0" y="-2465640"/>
            <a:ext cx="9144000" cy="538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Calibri"/>
              </a:rPr>
              <a:t>Evidence, Models, and Explanation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Models and evidence are used to help explain how things work. There are physical, conceptual, and mathematical models. Models are used to explain things that may or may not be difficult to observe or measure. </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omic Sans MS"/>
                <a:ea typeface="Calibri"/>
              </a:rPr>
              <a:t>Questions students can consider when investigating evidence, models, and explanations:</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How is the model similar and/or different from the real thing?</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patterns and/or properties does the model represent?</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How does the model help explain what it represents?</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Calibri"/>
              </a:rPr>
              <a:t>What can be learned from the model?</a:t>
            </a:r>
            <a:endParaRPr b="0" lang="en-US" sz="1100" spc="-1" strike="noStrike">
              <a:solidFill>
                <a:srgbClr val="000000"/>
              </a:solidFill>
              <a:latin typeface="Calibri"/>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Why are models constructed?</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7:13:14Z</dcterms:created>
  <dc:creator>anna.dipinto</dc:creator>
  <dc:description/>
  <dc:language>en-US</dc:language>
  <cp:lastModifiedBy>Suzanne Martinez</cp:lastModifiedBy>
  <dcterms:modified xsi:type="dcterms:W3CDTF">2010-09-30T14:37:37Z</dcterms:modified>
  <cp:revision>18</cp:revision>
  <dc:subject/>
  <dc:title>Slide 1</dc:title>
</cp:coreProperties>
</file>